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4.wmf" ContentType="image/x-wmf"/>
  <Override PartName="/ppt/media/image23.png" ContentType="image/png"/>
  <Override PartName="/ppt/media/image22.wmf" ContentType="image/x-wmf"/>
  <Override PartName="/ppt/media/image6.wmf" ContentType="image/x-wmf"/>
  <Override PartName="/ppt/media/image29.wmf" ContentType="image/x-wmf"/>
  <Override PartName="/ppt/media/image31.wmf" ContentType="image/x-wmf"/>
  <Override PartName="/ppt/media/image7.jpeg" ContentType="image/jpeg"/>
  <Override PartName="/ppt/media/image10.wmf" ContentType="image/x-wmf"/>
  <Override PartName="/ppt/media/image11.wmf" ContentType="image/x-wmf"/>
  <Override PartName="/ppt/media/image12.png" ContentType="image/png"/>
  <Override PartName="/ppt/media/image32.wmf" ContentType="image/x-wmf"/>
  <Override PartName="/ppt/media/image17.wmf" ContentType="image/x-wmf"/>
  <Override PartName="/ppt/media/image9.png" ContentType="image/png"/>
  <Override PartName="/ppt/media/image8.wmf" ContentType="image/x-wmf"/>
  <Override PartName="/ppt/media/image13.png" ContentType="image/png"/>
  <Override PartName="/ppt/media/image30.wmf" ContentType="image/x-wmf"/>
  <Override PartName="/ppt/media/image5.wmf" ContentType="image/x-wmf"/>
  <Override PartName="/ppt/media/image28.wmf" ContentType="image/x-wmf"/>
  <Override PartName="/ppt/media/image3.wmf" ContentType="image/x-wmf"/>
  <Override PartName="/ppt/media/image26.wmf" ContentType="image/x-wmf"/>
  <Override PartName="/ppt/media/image25.wmf" ContentType="image/x-wmf"/>
  <Override PartName="/ppt/media/image4.wmf" ContentType="image/x-wmf"/>
  <Override PartName="/ppt/media/image27.wmf" ContentType="image/x-wmf"/>
  <Override PartName="/ppt/media/image1.jpeg" ContentType="image/jpeg"/>
  <Override PartName="/ppt/media/image15.wmf" ContentType="image/x-wmf"/>
  <Override PartName="/ppt/media/image14.png" ContentType="image/png"/>
  <Override PartName="/ppt/media/image16.wmf" ContentType="image/x-wmf"/>
  <Override PartName="/ppt/media/image2.jpeg" ContentType="image/jpeg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move the slid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D049D-C478-41B4-9170-F1A8436AF37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48056-C9BB-4149-8BF0-60BB9A1B545C}" type="slidenum">
              <a:rPr b="0" lang="en-GB" sz="1200" spc="-1" strike="noStrike">
                <a:solidFill>
                  <a:srgbClr val="9a044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F6D068-2CD0-4069-81C3-B23D19AF2A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B0688A-C1FE-4386-AD5D-5481D2A7FD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01DBCE-8B87-465B-B39B-9488E71B8E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3182AA-4C60-42B6-B312-BF7AC90F6A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EEB79D-0479-44ED-8081-A54AFCFFBCB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BF3A06-EC34-4303-BC6C-A9E99AFAA42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1F8C49-5A77-4DCB-93BD-A7871563B80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878BEC-A860-4225-BEA3-5A69485DD12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CE2806-A3BF-437B-9FEB-BF5BC62EDA9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E2FD94-3AB3-403A-9BAC-281732A326E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1F6348-1B0E-48D3-B69E-FF3FAC570F3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370755-C6EE-4C0E-8395-9FA2C75FF4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4B9960-5A21-4474-AF60-F193365F017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2D515D-7663-44A3-9307-E2920D55D34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0CD918-0524-4309-A7F7-9BCDB72C4B7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C5A88E-634D-4489-9B23-08E904E7C39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5B360B-AE9D-4CDD-96B0-A5D7FC60FA1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D9A2ED-97A9-4859-8E13-F0F4573736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84BF07-5BC6-42BB-9E19-680E156A9A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1EF23B-038B-463A-95EB-9C23B763A7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5AC83B-E3E3-4CA3-944B-212A2EF9D7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359610-248A-4F8B-91F7-260E01D58B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69FE4B-139D-4A48-91F1-8A074CB4C6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FC1311-B4B4-4049-8F4E-29DE524703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914400" y="6476760"/>
            <a:ext cx="5105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471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B7A2A009-83FA-4B9A-A468-B5BBA3AEAEF6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30/26</a:t>
            </a:fld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B5FB69E8-63B9-49A2-9F3A-E30664296B38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Group 51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" name="Rectangle 52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" name="Rectangle 53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7" name="Rectangle 54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8" name="Rectangle 55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9" name="Rectangle 56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0" name="Rectangle 57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1" name="Rectangle 58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2" name="Rectangle 59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3" name="Rectangle 60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4" name="Rectangle 61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5" name="Rectangle 62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6" name="Rectangle 63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7" name="Rectangle 64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8" name="Rectangle 65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9" name="Rectangle 66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</p:grpSp>
      <p:pic>
        <p:nvPicPr>
          <p:cNvPr id="20" name="Picture 1" descr=""/>
          <p:cNvPicPr/>
          <p:nvPr/>
        </p:nvPicPr>
        <p:blipFill>
          <a:blip r:embed="rId2"/>
          <a:stretch/>
        </p:blipFill>
        <p:spPr>
          <a:xfrm>
            <a:off x="4267080" y="301680"/>
            <a:ext cx="4572000" cy="691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51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8" name="Rectangle 52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59" name="Rectangle 53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0" name="Rectangle 54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1" name="Rectangle 55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2" name="Rectangle 56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3" name="Rectangle 57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4" name="Rectangle 58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5" name="Rectangle 59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6" name="Rectangle 60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7" name="Rectangle 61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8" name="Rectangle 62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9" name="Rectangle 63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70" name="Rectangle 64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71" name="Rectangle 65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72" name="Rectangle 66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</p:grpSp>
      <p:pic>
        <p:nvPicPr>
          <p:cNvPr id="73" name="Picture 38" descr=""/>
          <p:cNvPicPr/>
          <p:nvPr/>
        </p:nvPicPr>
        <p:blipFill>
          <a:blip r:embed="rId2"/>
          <a:stretch/>
        </p:blipFill>
        <p:spPr>
          <a:xfrm>
            <a:off x="4356000" y="301680"/>
            <a:ext cx="4616640" cy="80784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ftr" idx="3"/>
          </p:nvPr>
        </p:nvSpPr>
        <p:spPr>
          <a:xfrm>
            <a:off x="838080" y="6476760"/>
            <a:ext cx="5181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sldNum" idx="4"/>
          </p:nvPr>
        </p:nvSpPr>
        <p:spPr>
          <a:xfrm>
            <a:off x="6552720" y="6476760"/>
            <a:ext cx="2210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947A638A-7156-4151-9263-1B1FBC1BC824}" type="datetime">
              <a:rPr b="0" lang="en-US" sz="1000" spc="-1" strike="noStrike">
                <a:solidFill>
                  <a:srgbClr val="9a044b"/>
                </a:solidFill>
                <a:latin typeface="Verdana"/>
              </a:rPr>
              <a:t>07/30/26</a:t>
            </a:fld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F178CA89-9FC5-462F-8D75-D7A2B3A2A5F2}" type="slidenum">
              <a:rPr b="0" lang="en-US" sz="1000" spc="-1" strike="noStrike">
                <a:solidFill>
                  <a:srgbClr val="9a044b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www.ted.com/talks/lang/eng/hans_rosling_shows_the_best_stats_you_ve_ever_seen.html" TargetMode="Externa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wmf"/><Relationship Id="rId5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45"/>
          <p:cNvSpPr/>
          <p:nvPr/>
        </p:nvSpPr>
        <p:spPr>
          <a:xfrm>
            <a:off x="838080" y="6477120"/>
            <a:ext cx="5181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600200" y="1904760"/>
            <a:ext cx="6192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i="1" lang="en-GB" sz="3200" spc="-1" strike="noStrike">
                <a:solidFill>
                  <a:srgbClr val="9a044b"/>
                </a:solidFill>
                <a:latin typeface="Verdana"/>
              </a:rPr>
              <a:t>1. </a:t>
            </a:r>
            <a:r>
              <a:rPr b="1" i="1" lang="en-GB" sz="2800" spc="-1" strike="noStrike">
                <a:solidFill>
                  <a:srgbClr val="9a044b"/>
                </a:solidFill>
                <a:latin typeface="Verdana"/>
              </a:rPr>
              <a:t>Exploratory Data Analysis</a:t>
            </a:r>
            <a:endParaRPr b="1" lang="en-US" sz="2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600200" y="3048120"/>
            <a:ext cx="6197760" cy="31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a044b"/>
                </a:solidFill>
                <a:latin typeface="Verdana"/>
              </a:rPr>
              <a:t>OR </a:t>
            </a:r>
            <a:r>
              <a:rPr b="0" i="1" lang="en-GB" sz="3200" spc="-1" strike="noStrike">
                <a:solidFill>
                  <a:srgbClr val="9a044b"/>
                </a:solidFill>
                <a:latin typeface="Verdana"/>
              </a:rPr>
              <a:t>An ABC of EDA</a:t>
            </a:r>
            <a:endParaRPr b="0" lang="en-US" sz="32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a044b"/>
                </a:solidFill>
                <a:latin typeface="Verdana"/>
              </a:rPr>
              <a:t>Peter Watson</a:t>
            </a:r>
            <a:endParaRPr b="0" lang="en-US" sz="32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ttp://imaging.mrc-cbu.cam.ac.uk/statswiki/FAQ/graphFAQ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24" name="Object 4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28954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hecking for bimodalit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Frankland and Zumbo (2002)         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1/sqrt(2</a:t>
            </a:r>
            <a:r>
              <a:rPr b="0" lang="en-GB" sz="1400" spc="-1" strike="noStrike">
                <a:solidFill>
                  <a:srgbClr val="9a044b"/>
                </a:solidFill>
                <a:latin typeface="Symbol"/>
                <a:ea typeface="Symbol"/>
              </a:rPr>
              <a:t></a:t>
            </a:r>
            <a:r>
              <a:rPr b="0" lang="en-GB" sz="14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) exp( -  </a:t>
            </a:r>
            <a:r>
              <a:rPr b="0" lang="en-GB" sz="1400" spc="-1" strike="noStrike">
                <a:solidFill>
                  <a:srgbClr val="9a044b"/>
                </a:solidFill>
                <a:latin typeface="Symbol"/>
                <a:ea typeface="Symbol"/>
              </a:rPr>
              <a:t></a:t>
            </a: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(x – </a:t>
            </a:r>
            <a:r>
              <a:rPr b="0" lang="en-GB" sz="1400" spc="-1" strike="noStrike" u="sng">
                <a:solidFill>
                  <a:srgbClr val="9a044b"/>
                </a:solidFill>
                <a:uFillTx/>
                <a:latin typeface="Symbol"/>
                <a:ea typeface="Symbol"/>
              </a:rPr>
              <a:t></a:t>
            </a: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)</a:t>
            </a:r>
            <a:r>
              <a:rPr b="0" lang="en-GB" sz="1400" spc="-1" strike="noStrike" u="sng" baseline="30000">
                <a:solidFill>
                  <a:srgbClr val="9a044b"/>
                </a:solidFill>
                <a:uFillTx/>
                <a:latin typeface="Verdana"/>
              </a:rPr>
              <a:t>2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                                                                                       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400" spc="-1" strike="noStrike">
                <a:solidFill>
                  <a:srgbClr val="9a044b"/>
                </a:solidFill>
                <a:latin typeface="Symbol"/>
                <a:ea typeface="Symbol"/>
              </a:rPr>
              <a:t></a:t>
            </a:r>
            <a:r>
              <a:rPr b="0" lang="en-GB" sz="14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For proportions, p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Probability of being in interval [a,b] = P x N(mean1,sd1) + (1-P) x N(mean2,sd2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And use SPSS CNLR to estimate p, mean1, mean2, sd1 and sd2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: NORMAL MIXTURES.S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Example featuring two normal distributions with means 2.5 and 5 both having sds of 0.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9" name="Line 4"/>
          <p:cNvSpPr/>
          <p:nvPr/>
        </p:nvSpPr>
        <p:spPr>
          <a:xfrm flipH="1">
            <a:off x="5651640" y="2205000"/>
            <a:ext cx="288720" cy="57636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0" name="Line 5"/>
          <p:cNvSpPr/>
          <p:nvPr/>
        </p:nvSpPr>
        <p:spPr>
          <a:xfrm>
            <a:off x="6804000" y="2276640"/>
            <a:ext cx="576360" cy="57600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eck Sco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sitive skew (&gt;1.0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ost scores around zero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cores above 13 - clinically depress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One score of 46!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Max=63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64" name="Object 1024"/>
          <p:cNvGraphicFramePr/>
          <p:nvPr/>
        </p:nvGraphicFramePr>
        <p:xfrm>
          <a:off x="4648320" y="2567160"/>
          <a:ext cx="4038480" cy="2788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5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567160"/>
                    <a:ext cx="4038480" cy="27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" name="Oval 6"/>
          <p:cNvSpPr/>
          <p:nvPr/>
        </p:nvSpPr>
        <p:spPr>
          <a:xfrm>
            <a:off x="7391520" y="4572000"/>
            <a:ext cx="838080" cy="91440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Boxplots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69" name="Picture 1027" descr="boxplot"/>
          <p:cNvPicPr/>
          <p:nvPr/>
        </p:nvPicPr>
        <p:blipFill>
          <a:blip r:embed="rId1"/>
          <a:stretch/>
        </p:blipFill>
        <p:spPr>
          <a:xfrm>
            <a:off x="934920" y="1600200"/>
            <a:ext cx="727416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Boxplots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dian = line in red box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iddle half in red box (=1.3 sd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utliers = circles and sta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hape of data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73" name="Object 6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4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Outliers in boxplo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Inner fenc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- moderately weird. Over 1.5 boxlengths from upper/lower quartiles; Circles in SPS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2.67 sds from mean in normal data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Outer fenc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- decidedly weird. Over 3 boxlengths from upper/lower quartiles; Asterisks in SPSS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4.67 sds from mean in normal data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Boxplot of Beck score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sitive ske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centration of outliers above median scor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DEMO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BECK.SAV WITH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EDA_BECK.SAV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81" name="Object 0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of an outlie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iases mean (green lin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flates variance of mea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edian more robus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86" name="Object 6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obustness to outlier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umber of positive responses (max=6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,0,0,4,4,5,5,5,6,6,6,6,6,6,6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1250"/>
              </a:spcBef>
              <a:buClr>
                <a:srgbClr val="9a044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Times New Roman"/>
              </a:rPr>
              <a:t>1000 random samples of size equal to original sample (N=15)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9a044b"/>
                </a:solidFill>
                <a:uFillTx/>
                <a:latin typeface="Times New Roman"/>
              </a:rPr>
              <a:t>Results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1250"/>
              </a:spcBef>
              <a:buClr>
                <a:srgbClr val="9a044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Times New Roman"/>
              </a:rPr>
              <a:t>Point estimates :Mean=4.37; Median=5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1250"/>
              </a:spcBef>
              <a:buClr>
                <a:srgbClr val="9a044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Times New Roman"/>
              </a:rPr>
              <a:t>95% CIs: Mean [3.07, 5.40];  Median [4, 6]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1250"/>
              </a:spcBef>
              <a:buClr>
                <a:srgbClr val="9a044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Times New Roman"/>
              </a:rPr>
              <a:t>Outliers exerting undue influence on the mean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1001"/>
              </a:spcBef>
              <a:buClr>
                <a:srgbClr val="9a044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Times New Roman"/>
              </a:rPr>
              <a:t>See: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imaging.mrc-cbu.cam.ac.uk/statswiki/FAQ/boo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Obtaining 95% CIs for skewed data: Bootstrapping (Efron &amp; Tibshirani, 1993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93" name="Picture 3" descr=""/>
          <p:cNvPicPr/>
          <p:nvPr/>
        </p:nvPicPr>
        <p:blipFill>
          <a:blip r:embed="rId1"/>
          <a:stretch/>
        </p:blipFill>
        <p:spPr>
          <a:xfrm>
            <a:off x="4952880" y="1905120"/>
            <a:ext cx="3581640" cy="36576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4" descr=""/>
          <p:cNvPicPr/>
          <p:nvPr/>
        </p:nvPicPr>
        <p:blipFill>
          <a:blip r:embed="rId2"/>
          <a:stretch/>
        </p:blipFill>
        <p:spPr>
          <a:xfrm>
            <a:off x="685800" y="1905120"/>
            <a:ext cx="3733920" cy="3695760"/>
          </a:xfrm>
          <a:prstGeom prst="rect">
            <a:avLst/>
          </a:prstGeom>
          <a:ln w="0">
            <a:noFill/>
          </a:ln>
        </p:spPr>
      </p:pic>
      <p:sp>
        <p:nvSpPr>
          <p:cNvPr id="195" name="AutoShape 6"/>
          <p:cNvSpPr/>
          <p:nvPr/>
        </p:nvSpPr>
        <p:spPr>
          <a:xfrm>
            <a:off x="3809880" y="3200400"/>
            <a:ext cx="1143000" cy="914400"/>
          </a:xfrm>
          <a:prstGeom prst="rightArrow">
            <a:avLst>
              <a:gd name="adj1" fmla="val 50000"/>
              <a:gd name="adj2" fmla="val 31250"/>
            </a:avLst>
          </a:prstGeom>
          <a:solidFill>
            <a:srgbClr val="ff9900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6" name="Text Box 7"/>
          <p:cNvSpPr/>
          <p:nvPr/>
        </p:nvSpPr>
        <p:spPr>
          <a:xfrm>
            <a:off x="762120" y="5486400"/>
            <a:ext cx="7467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7" name="Rectangle 10"/>
          <p:cNvSpPr/>
          <p:nvPr/>
        </p:nvSpPr>
        <p:spPr>
          <a:xfrm>
            <a:off x="900000" y="5877000"/>
            <a:ext cx="705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Times New Roman"/>
              </a:rPr>
              <a:t>See also: http://www.ruf.rice.edu/~lane/stat_sim/sampling_dist/index.html</a:t>
            </a:r>
            <a:endParaRPr b="0" lang="en-US" sz="18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The sampling distribution of the variance follows a chisquare which tends to N(n-1,2(n-1)) as n increases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00" name="Picture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724280"/>
          </a:xfrm>
          <a:prstGeom prst="rect">
            <a:avLst/>
          </a:prstGeom>
          <a:ln w="0">
            <a:noFill/>
          </a:ln>
        </p:spPr>
      </p:pic>
      <p:sp>
        <p:nvSpPr>
          <p:cNvPr id="201" name="Oval 4"/>
          <p:cNvSpPr/>
          <p:nvPr/>
        </p:nvSpPr>
        <p:spPr>
          <a:xfrm>
            <a:off x="6588000" y="5084640"/>
            <a:ext cx="1656000" cy="100836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2" name="Oval 5"/>
          <p:cNvSpPr/>
          <p:nvPr/>
        </p:nvSpPr>
        <p:spPr>
          <a:xfrm>
            <a:off x="539640" y="5300640"/>
            <a:ext cx="1440000" cy="14436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3" name="Oval 6"/>
          <p:cNvSpPr/>
          <p:nvPr/>
        </p:nvSpPr>
        <p:spPr>
          <a:xfrm>
            <a:off x="611280" y="5516640"/>
            <a:ext cx="1439640" cy="2887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4" name="Text Box 8"/>
          <p:cNvSpPr/>
          <p:nvPr/>
        </p:nvSpPr>
        <p:spPr>
          <a:xfrm>
            <a:off x="2771640" y="3141720"/>
            <a:ext cx="3311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Times New Roman"/>
              </a:rPr>
              <a:t>N=25; normal(24,48); observed mean is 23.75, observed variance=6.82*6.82=46.5</a:t>
            </a:r>
            <a:endParaRPr b="0" lang="en-US" sz="1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5" name="Oval 10"/>
          <p:cNvSpPr/>
          <p:nvPr/>
        </p:nvSpPr>
        <p:spPr>
          <a:xfrm>
            <a:off x="611280" y="4365720"/>
            <a:ext cx="1224000" cy="35856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6" name="Line 11"/>
          <p:cNvSpPr/>
          <p:nvPr/>
        </p:nvSpPr>
        <p:spPr>
          <a:xfrm>
            <a:off x="1116000" y="3141720"/>
            <a:ext cx="0" cy="129528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7" name="Text Box 12"/>
          <p:cNvSpPr/>
          <p:nvPr/>
        </p:nvSpPr>
        <p:spPr>
          <a:xfrm>
            <a:off x="395280" y="2924280"/>
            <a:ext cx="1944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Times New Roman"/>
              </a:rPr>
              <a:t>should=s.e.(mean) =5/sqrt(25)=1</a:t>
            </a:r>
            <a:endParaRPr b="0" lang="en-US" sz="1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8" name="Line 13"/>
          <p:cNvSpPr/>
          <p:nvPr/>
        </p:nvSpPr>
        <p:spPr>
          <a:xfrm>
            <a:off x="3203640" y="3357720"/>
            <a:ext cx="3673440" cy="187164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9" name="Line 14"/>
          <p:cNvSpPr/>
          <p:nvPr/>
        </p:nvSpPr>
        <p:spPr>
          <a:xfrm flipH="1">
            <a:off x="1835280" y="3357720"/>
            <a:ext cx="3744720" cy="19429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0" name="Line 15"/>
          <p:cNvSpPr/>
          <p:nvPr/>
        </p:nvSpPr>
        <p:spPr>
          <a:xfrm flipH="1">
            <a:off x="1835280" y="3573360"/>
            <a:ext cx="2952720" cy="208764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1" name="Oval 16"/>
          <p:cNvSpPr/>
          <p:nvPr/>
        </p:nvSpPr>
        <p:spPr>
          <a:xfrm>
            <a:off x="6877080" y="3500280"/>
            <a:ext cx="1224000" cy="36036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403280" y="112536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No apriori ideas (model) in EDA!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or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classical analysi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, the sequence i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9a044b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blem =&gt; Data =&gt; Model =&gt; Analysis =&gt; Conclusion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or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EDA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, the sequence i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9a044b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blem =&gt; Data =&gt; Analysis =&gt; Model =&gt; Conclusion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DEMO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BOOTSTRAP IN R.TX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For more about R (primer)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http://www.spssusers.co.uk/Events/2012/confprog.htm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Other approaches to identifying outliers (besides boxplots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ses with z-scores exceeding 2.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z-score subtracts mean and divides by s.d.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ubb’s test (http://imaging.mrc-cbu.cam.ac.uk/statswiki/FAQ/RegressionOutlier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Quantile Plo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w beck scor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eviates from straight lin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ubstantial ske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imits choice of statistical tests we can use to analyse beck scor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ump above line = positive ske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21" name="Object 5"/>
          <p:cNvGraphicFramePr/>
          <p:nvPr/>
        </p:nvGraphicFramePr>
        <p:xfrm>
          <a:off x="4648320" y="2314440"/>
          <a:ext cx="4038480" cy="329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14440"/>
                    <a:ext cx="4038480" cy="329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everse scored Beck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eck is now 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negative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skew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he bump is now 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under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the lin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26" name="Object 5"/>
          <p:cNvGraphicFramePr/>
          <p:nvPr/>
        </p:nvGraphicFramePr>
        <p:xfrm>
          <a:off x="4648320" y="2314440"/>
          <a:ext cx="4038480" cy="329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14440"/>
                    <a:ext cx="4038480" cy="329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 shap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ymptoms of Kurtosi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iformit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eakednes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31" name="Object 4"/>
          <p:cNvGraphicFramePr/>
          <p:nvPr/>
        </p:nvGraphicFramePr>
        <p:xfrm>
          <a:off x="4648320" y="2314440"/>
          <a:ext cx="4038480" cy="329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14440"/>
                    <a:ext cx="4038480" cy="329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esting normality more formall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Kolmogorov-Smirnov test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Micceri (1989) "The unicorn, the normal distribution, and other mythical beasts". Psych Bulletin 105(1) 156-166 says if you have a sample of over 200, you will NEVER pass the K-S test of normality, in a real dataset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hapiro-Wilks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Overly sensitive for large samples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DEMO: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R EDA BECK.SPS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R EDA PLOTS.TXT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36" name="Picture 5" descr=""/>
          <p:cNvPicPr/>
          <p:nvPr/>
        </p:nvPicPr>
        <p:blipFill>
          <a:blip r:embed="rId1"/>
          <a:stretch/>
        </p:blipFill>
        <p:spPr>
          <a:xfrm>
            <a:off x="4648320" y="3056040"/>
            <a:ext cx="4038480" cy="1812960"/>
          </a:xfrm>
          <a:prstGeom prst="rect">
            <a:avLst/>
          </a:prstGeom>
          <a:ln w="0">
            <a:noFill/>
          </a:ln>
        </p:spPr>
      </p:pic>
      <p:sp>
        <p:nvSpPr>
          <p:cNvPr id="237" name="Oval 6"/>
          <p:cNvSpPr/>
          <p:nvPr/>
        </p:nvSpPr>
        <p:spPr>
          <a:xfrm>
            <a:off x="8001000" y="3657600"/>
            <a:ext cx="685800" cy="99072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8" name="Oval 7"/>
          <p:cNvSpPr/>
          <p:nvPr/>
        </p:nvSpPr>
        <p:spPr>
          <a:xfrm>
            <a:off x="6400800" y="3733920"/>
            <a:ext cx="685800" cy="99036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9" name="Line 9"/>
          <p:cNvSpPr/>
          <p:nvPr/>
        </p:nvSpPr>
        <p:spPr>
          <a:xfrm flipH="1" flipV="1">
            <a:off x="6858000" y="4648320"/>
            <a:ext cx="457200" cy="91440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0" name="Line 10"/>
          <p:cNvSpPr/>
          <p:nvPr/>
        </p:nvSpPr>
        <p:spPr>
          <a:xfrm flipV="1">
            <a:off x="7924680" y="4343040"/>
            <a:ext cx="304920" cy="106668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1" name="Text Box 11"/>
          <p:cNvSpPr/>
          <p:nvPr/>
        </p:nvSpPr>
        <p:spPr>
          <a:xfrm>
            <a:off x="6400800" y="541008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299cc"/>
                </a:solidFill>
                <a:latin typeface="Times New Roman"/>
              </a:rPr>
              <a:t>Non-Normal</a:t>
            </a: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ababa"/>
                </a:solidFill>
                <a:latin typeface="Verdana"/>
              </a:rPr>
              <a:t>Stem and Leaf of Beck Score</a:t>
            </a:r>
            <a:endParaRPr b="1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em   Leaf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6      .   0        =6.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ach leaf=4 cas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45" name="Object 5"/>
          <p:cNvGraphicFramePr/>
          <p:nvPr/>
        </p:nvGraphicFramePr>
        <p:xfrm>
          <a:off x="4495680" y="1600200"/>
          <a:ext cx="4267440" cy="4572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4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95680" y="1600200"/>
                    <a:ext cx="4267440" cy="4572000"/>
                  </a:xfrm>
                  <a:prstGeom prst="rect">
                    <a:avLst/>
                  </a:prstGeom>
                  <a:ln w="9360">
                    <a:solidFill>
                      <a:srgbClr val="9a044b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Temperature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What is unusual about thi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istribution? (Exercis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lue: spacing.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ach leaf=two temperatur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EM LEAF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-6      6     = -6.6 Degrees C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48320" y="2133720"/>
            <a:ext cx="4038480" cy="403848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Frequency    Stem &amp;  Leaf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2.00       -6 .  6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4.00       -5 .  00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0.00       -4 .  44444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6.00       -3 .  338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4.00       -2 .  2227777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4.00       -1 .  1116666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8.00       -0 .  0055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2.00        0 .  005555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6.00        1 .  616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4.00        2 .  7777777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6.00        3 . 33333888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4.00        4 .  4444444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3.00        5 .  555555  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1.00        7 .  22227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7.00        8 .  888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6.00        9 .  444 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Error Bar Charts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Interactive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Bar char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ar length represents 95% Confidence interval for the mea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emales have higher depression scores than ma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	</a:t>
            </a: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DEMO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EDS_BECK.S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R_EDA PLOTS.TX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54" name="Picture 7" descr=""/>
          <p:cNvPicPr/>
          <p:nvPr/>
        </p:nvPicPr>
        <p:blipFill>
          <a:blip r:embed="rId1"/>
          <a:stretch/>
        </p:blipFill>
        <p:spPr>
          <a:xfrm>
            <a:off x="4343400" y="2028960"/>
            <a:ext cx="4800600" cy="48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943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Bubble Plots (in R) years in education related to income/prestige</a:t>
            </a:r>
            <a:br>
              <a:rPr sz="1800"/>
            </a:b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Hans Rosling – bubble plots over years (</a:t>
            </a:r>
            <a:r>
              <a:rPr b="1" lang="en-GB" sz="1800" spc="-1" strike="noStrike" u="sng">
                <a:solidFill>
                  <a:srgbClr val="ff00ff"/>
                </a:solidFill>
                <a:uFillTx/>
                <a:latin typeface="Verdana"/>
                <a:hlinkClick r:id="rId1"/>
              </a:rPr>
              <a:t>http://www.ted.com/talks/lang/eng/hans_rosling_shows_the_best_stats_you_ve_ever_seen.html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) 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57" name="Object 3"/>
          <p:cNvGraphicFramePr/>
          <p:nvPr/>
        </p:nvGraphicFramePr>
        <p:xfrm>
          <a:off x="1514520" y="1600200"/>
          <a:ext cx="6113520" cy="4724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8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14520" y="1600200"/>
                    <a:ext cx="611352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EDA - Exploratory data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formal graphical techniques (Tukey, 1977) which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ok at underlying structu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dentify outlie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heck assumptions in later formal analyses (Normality, equality of varianc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ost of the EDA techniques are graphical and quite simp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3299cc"/>
                </a:solidFill>
                <a:latin typeface="Verdana"/>
              </a:rPr>
              <a:t>“</a:t>
            </a:r>
            <a:r>
              <a:rPr b="0" i="1" lang="en-GB" sz="1800" spc="-1" strike="noStrike">
                <a:solidFill>
                  <a:srgbClr val="3299cc"/>
                </a:solidFill>
                <a:latin typeface="Verdana"/>
              </a:rPr>
              <a:t>A picture is worth more than ten thousand words” Chinese proverb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ultiple scatter plots (R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61" name="Object 0"/>
          <p:cNvGraphicFramePr/>
          <p:nvPr/>
        </p:nvGraphicFramePr>
        <p:xfrm>
          <a:off x="1514520" y="1600200"/>
          <a:ext cx="611352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2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4520" y="1600200"/>
                    <a:ext cx="611352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3" name="Oval 4"/>
          <p:cNvSpPr/>
          <p:nvPr/>
        </p:nvSpPr>
        <p:spPr>
          <a:xfrm>
            <a:off x="1828800" y="3809880"/>
            <a:ext cx="1523880" cy="129564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4" name="Oval 5"/>
          <p:cNvSpPr/>
          <p:nvPr/>
        </p:nvSpPr>
        <p:spPr>
          <a:xfrm>
            <a:off x="5867280" y="3581280"/>
            <a:ext cx="1600200" cy="16765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Done using PRISM software (Thanks to Kate McAlister)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68" name="Picture 5" descr="Eyefitting_SIPT"/>
          <p:cNvPicPr/>
          <p:nvPr/>
        </p:nvPicPr>
        <p:blipFill>
          <a:blip r:embed="rId1"/>
          <a:stretch/>
        </p:blipFill>
        <p:spPr>
          <a:xfrm>
            <a:off x="3294000" y="1600200"/>
            <a:ext cx="25542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Ladder of Powers (Marsh,1988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s (double star function in SPSS COMPUTE) e.g. 3**2=9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2     square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1     untransformed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0.5  square root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0     (natural) log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-0.5  inverse square root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-1     reciprocal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-2     inverse square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bababa"/>
                </a:solidFill>
                <a:latin typeface="Verdana"/>
              </a:rPr>
              <a:t>Choosing a power</a:t>
            </a:r>
            <a:endParaRPr b="1" lang="en-US" sz="2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Trial and Error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Box-Cox transformation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SPSS Box-Cox macro available at: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http://stat.tamu.edu/ftp/pub/mspeed/stat653/spss/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Box-Cox rationa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g likelihood for regression with predictor weights, B and error variance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</a:t>
            </a:r>
            <a:r>
              <a:rPr b="0" lang="en-GB" sz="1800" spc="-1" strike="noStrike" baseline="30000">
                <a:solidFill>
                  <a:srgbClr val="9a044b"/>
                </a:solidFill>
                <a:latin typeface="Symbol"/>
                <a:ea typeface="Symbol"/>
              </a:rPr>
              <a:t>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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Y-XB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/n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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f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</a:t>
            </a:r>
            <a:r>
              <a:rPr b="0" lang="en-GB" sz="1800" spc="-1" strike="noStrike" baseline="30000">
                <a:solidFill>
                  <a:srgbClr val="9a044b"/>
                </a:solidFill>
                <a:latin typeface="Symbol"/>
                <a:ea typeface="Symbol"/>
              </a:rPr>
              <a:t>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s</a:t>
            </a:r>
            <a:r>
              <a:rPr b="0" lang="en-GB" sz="1800" spc="-1" strike="noStrike" baseline="30000">
                <a:solidFill>
                  <a:srgbClr val="9a044b"/>
                </a:solidFill>
                <a:latin typeface="Symbol"/>
                <a:ea typeface="Symbol"/>
              </a:rPr>
              <a:t>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ot known</a:t>
            </a:r>
            <a:r>
              <a:rPr b="0" lang="en-GB" sz="1800" spc="-1" strike="noStrike" baseline="30000">
                <a:solidFill>
                  <a:srgbClr val="9a044b"/>
                </a:solidFill>
                <a:latin typeface="Symbol"/>
                <a:ea typeface="Symbol"/>
              </a:rPr>
              <a:t>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, predictors X and outcome 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g L(B,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</a:t>
            </a:r>
            <a:r>
              <a:rPr b="0" lang="en-GB" sz="1800" spc="-1" strike="noStrike" baseline="30000">
                <a:solidFill>
                  <a:srgbClr val="9a044b"/>
                </a:solidFill>
                <a:latin typeface="Symbol"/>
                <a:ea typeface="Symbol"/>
              </a:rPr>
              <a:t>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| X; Y ) = - n/2 (log(2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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 + log </a:t>
            </a:r>
            <a:r>
              <a:rPr b="0" lang="en-GB" sz="1800" spc="-1" strike="noStrike">
                <a:solidFill>
                  <a:srgbClr val="3299cc"/>
                </a:solidFill>
                <a:latin typeface="Symbol"/>
                <a:ea typeface="Symbol"/>
              </a:rPr>
              <a:t></a:t>
            </a:r>
            <a:r>
              <a:rPr b="0" lang="en-GB" sz="1800" spc="-1" strike="noStrike" baseline="30000">
                <a:solidFill>
                  <a:srgbClr val="3299cc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 – 1/2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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(Y-XB)</a:t>
            </a:r>
            <a:r>
              <a:rPr b="0" lang="en-GB" sz="1800" spc="-1" strike="noStrike" baseline="30000">
                <a:solidFill>
                  <a:srgbClr val="3299cc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inimizing the error variance increases the likelihood of it being normally distribute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e also assume the errors Y-BX are random (Normally distributed with a mean of zero and constant varianc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ox-Cox applied to Beck sco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oks for a power that minimises Beck score varianc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ggests a power of 0.3 (near to log transform (power=0)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gression: improve fit of a covariate to predict a test score   Box-Cox can flag up a non-linear relationshi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be used to help determine z-scores and means but can be misleading for very skewed data e.g. when floor and ceiling effects are presen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redicted test score using a covariate vs actual test score (raw and square rooted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83" name="Object 1024"/>
          <p:cNvGraphicFramePr/>
          <p:nvPr/>
        </p:nvGraphicFramePr>
        <p:xfrm>
          <a:off x="4724280" y="2057400"/>
          <a:ext cx="4038840" cy="331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4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2057400"/>
                    <a:ext cx="4038840" cy="331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5" name="Object 1025"/>
          <p:cNvGraphicFramePr/>
          <p:nvPr/>
        </p:nvGraphicFramePr>
        <p:xfrm>
          <a:off x="380880" y="2057400"/>
          <a:ext cx="4038840" cy="3314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6" name="Object 102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2057400"/>
                    <a:ext cx="4038840" cy="331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7" name="Text Box 1030"/>
          <p:cNvSpPr/>
          <p:nvPr/>
        </p:nvSpPr>
        <p:spPr>
          <a:xfrm>
            <a:off x="228600" y="548640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a044b"/>
                </a:solidFill>
                <a:latin typeface="Times New Roman"/>
              </a:rPr>
              <a:t>More linear relationship taking square root (right hand side picture)</a:t>
            </a: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ox Cox on residual varianc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test score = constant + A*item score + residual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Can use boxcox on residuals of fitting item score on test scor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uggests using square root of y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This is the transform of test score which minimizes the residual varianc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      </a:t>
            </a: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DEMO: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      </a:t>
            </a: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BOXCOX.SPS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91" name="Object 0"/>
          <p:cNvGraphicFramePr/>
          <p:nvPr/>
        </p:nvGraphicFramePr>
        <p:xfrm>
          <a:off x="4419720" y="2362320"/>
          <a:ext cx="4038480" cy="333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2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19720" y="2362320"/>
                    <a:ext cx="4038480" cy="333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3" name="Line 11"/>
          <p:cNvSpPr/>
          <p:nvPr/>
        </p:nvSpPr>
        <p:spPr>
          <a:xfrm>
            <a:off x="3505320" y="3200400"/>
            <a:ext cx="3809880" cy="16002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xponential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licks = AE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-B Ag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(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og Clicks = log A – B Ag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other type of non-linear relationship. Characterised by  ever increasing rates of changes as you get old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97" name="Object 5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Log Beck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kew=0.6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Kurtosis=-0.06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cceptable using rule of thumb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302" name="Picture 4" descr=""/>
          <p:cNvPicPr/>
          <p:nvPr/>
        </p:nvPicPr>
        <p:blipFill>
          <a:blip r:embed="rId1"/>
          <a:stretch/>
        </p:blipFill>
        <p:spPr>
          <a:xfrm>
            <a:off x="4648320" y="1820880"/>
            <a:ext cx="403848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Graphical display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50920" y="21333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istogram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oxplot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rror Bar plots (group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tem and Leaf Display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catterplots (especially for checking linearity of correlations, residual plots from regression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see also regression talk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nder SPSS EXPLO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Quantile plot - log Beck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its closer to a straight lin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og transform has made the distribution more Norma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og transform enables the use of more powerful statistical test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306" name="Object 0"/>
          <p:cNvGraphicFramePr/>
          <p:nvPr/>
        </p:nvGraphicFramePr>
        <p:xfrm>
          <a:off x="4648320" y="2314440"/>
          <a:ext cx="4038480" cy="329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7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14440"/>
                    <a:ext cx="4038480" cy="329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ank transform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ownweight outlier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ful if power transformations fai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ful summary measur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edia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terquartile ranges (Boxplot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nk sums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(Non-parametric test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Using ranks -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 cost (in £) of two care centr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re Centres O &amp; 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ny patient cost saving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Centre O stem &amp; leaf displa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EM WIDTH=20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2 EXTREM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SITIVE SKE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317" name="Object 5"/>
          <p:cNvGraphicFramePr/>
          <p:nvPr/>
        </p:nvGraphicFramePr>
        <p:xfrm>
          <a:off x="4648320" y="2209680"/>
          <a:ext cx="4038480" cy="3581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1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209680"/>
                    <a:ext cx="4038480" cy="358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bababa"/>
                </a:solidFill>
                <a:latin typeface="Verdana"/>
              </a:rPr>
              <a:t>Centre R - Stem and Leaf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stem width=100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outliers presen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sitive ske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nk test need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322" name="Object 5"/>
          <p:cNvGraphicFramePr/>
          <p:nvPr/>
        </p:nvGraphicFramePr>
        <p:xfrm>
          <a:off x="4648320" y="2057400"/>
          <a:ext cx="4038480" cy="3809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23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057400"/>
                    <a:ext cx="4038480" cy="38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bababa"/>
                </a:solidFill>
                <a:latin typeface="Verdana"/>
              </a:rPr>
              <a:t>RESUL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RANK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(147) = 0.30, p=.76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centre costs the sam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ses</a:t>
            </a:r>
            <a:r>
              <a:rPr b="0" lang="en-GB" sz="16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mea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NK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ean Rank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udy O       65.11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udy R       85.58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-W: Z=-2.94,p=.003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Centre R costli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ses</a:t>
            </a:r>
            <a:r>
              <a:rPr b="0" lang="en-GB" sz="16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rank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DEMO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     </a:t>
            </a: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EDA_CENTRE.S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Nonparametric tes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ownweight outlier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ewer assumption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seful for skewed distributions (See Lantz (2013) for Kruskal-Wallis for three or more group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ess powerfu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ose inform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imited range of tests</a:t>
            </a:r>
            <a:r>
              <a:rPr b="0" lang="en-GB" sz="1600" spc="-1" strike="noStrike">
                <a:solidFill>
                  <a:srgbClr val="bababa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qual Group Varianc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mportant for t-tests and ANOVA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o covariate by group interaction in ANCOVA; Quade’s (1967) method is a nonparametric equivalen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y need to transform outcom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sts available to identify problems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Levene’s tes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re group variances equal?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ets slope of spread vs loc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mpares slope to 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produces F-test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5144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ribbie et al (2012) in Br J Math Stat Psych suggest a variety of adjusted tests including Welch’s (1951) adjustment for use with one-way ANOVA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338" name="Picture 5" descr=""/>
          <p:cNvPicPr/>
          <p:nvPr/>
        </p:nvPicPr>
        <p:blipFill>
          <a:blip r:embed="rId1"/>
          <a:stretch/>
        </p:blipFill>
        <p:spPr>
          <a:xfrm>
            <a:off x="4648320" y="1862280"/>
            <a:ext cx="4038480" cy="42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ropor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Variance of a proportion depends on value of proportion!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rcsine transform resolves this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SPSS use function in COMPUTE to do transform :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 * arsin(sqrt(p)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c8ab9"/>
                </a:solidFill>
                <a:latin typeface="Verdana"/>
              </a:rPr>
              <a:t>howev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Jaeger TF (2008) Categorical data analysis:away from ANOVAs.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J Mem Lang 59(4) 434-446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ggests difficulties using arcsines on proportions near 0 or 1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arcsine also may be used when correlating proportion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Symmetry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Clustered around median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median=mean=mode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no skewnes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CIs of mean assume symmetry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37" name="Object 5"/>
          <p:cNvGraphicFramePr/>
          <p:nvPr/>
        </p:nvGraphicFramePr>
        <p:xfrm>
          <a:off x="4648320" y="2344680"/>
          <a:ext cx="4038480" cy="3235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44680"/>
                    <a:ext cx="4038480" cy="323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And Finally...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“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A Statistician is someone who can have their head in an oven and their feet in an ice box and say that on the whole they are feeling perfectly normal”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Check you are using appropriate summary measures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Boxplot illustrations: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Lane, DM and Sandor, A (2009) Designing better graphs by including distributional information and integrating words, numbers and images. Psychological Methods 14(3) 239-257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419720" y="1599840"/>
            <a:ext cx="44956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Further details including references on EDA at: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ttp://www.itl.nist.gov/div898/handbook/eda/eda.htm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Thanks to Frank Duckworth [RSS News article on scales]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Allan Reese (CEFAS, graphical comments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Barney Dunn (Bimodality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ext week (Thursday)…11am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imple and Multiple Linear Regress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3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3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3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bababa"/>
                </a:solidFill>
                <a:latin typeface="Tahoma"/>
              </a:rPr>
              <a:t>Skew and kurtosis</a:t>
            </a:r>
            <a:endParaRPr b="1" lang="en-US" sz="2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kew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&lt;0 upper stragg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0 symmetric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&gt;0 downward stragg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ules of Thumb (Hair et al,1998;Simon,2002):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egative skew &lt;-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sitive Skew &gt; 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Kurtosi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&lt;0 flat (Platikurtic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0 normal peak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&gt;0 peaked about mean (Leptokurtic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ules of Thumb (Simon, 2002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sitive Kurtosis   &gt;  3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egative Kurtosis &lt; -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bababa"/>
                </a:solidFill>
                <a:latin typeface="Tahoma"/>
              </a:rPr>
              <a:t>Peakedness</a:t>
            </a:r>
            <a:endParaRPr b="1" lang="en-US" sz="2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Kurtosis measures peakednes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eCarlo in his 1997 Psychological Methods paper shows kurtosis influenced by the tails of the distribu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on’t want too peaked or too uniform distributi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o peaked -no vari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o flat - no one ‘typical’ valu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46" name="Object 1029"/>
          <p:cNvGraphicFramePr/>
          <p:nvPr/>
        </p:nvGraphicFramePr>
        <p:xfrm>
          <a:off x="4648320" y="2314440"/>
          <a:ext cx="4038480" cy="329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Object 102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14440"/>
                    <a:ext cx="4038480" cy="329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Types of Kurtosis (Miles &amp; Shevlin, 2001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50" name="Object 2051"/>
          <p:cNvGraphicFramePr/>
          <p:nvPr/>
        </p:nvGraphicFramePr>
        <p:xfrm>
          <a:off x="395280" y="1844640"/>
          <a:ext cx="822816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Object 205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844640"/>
                    <a:ext cx="822816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Bimodalit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his is a mixture of two distributions (clear dip around the middle; multipeake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istograms are usually good at spotting thi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uggests modelling the first half and second half separatel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55" name="Picture 1031" descr="BIMOD~BS"/>
          <p:cNvPicPr/>
          <p:nvPr/>
        </p:nvPicPr>
        <p:blipFill>
          <a:blip r:embed="rId1"/>
          <a:stretch/>
        </p:blipFill>
        <p:spPr>
          <a:xfrm>
            <a:off x="4648320" y="2448000"/>
            <a:ext cx="4038480" cy="30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2T13:07:24Z</dcterms:created>
  <dc:creator>peter</dc:creator>
  <dc:description/>
  <dc:language>en-US</dc:language>
  <cp:lastModifiedBy>Peter Watson</cp:lastModifiedBy>
  <dcterms:modified xsi:type="dcterms:W3CDTF">2017-07-03T08:52:35Z</dcterms:modified>
  <cp:revision>350</cp:revision>
  <dc:subject/>
  <dc:title>Exploratory Data Analysis</dc:title>
</cp:coreProperties>
</file>